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C1C7-8B66-461C-9AC1-CE958CC29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11B9-A876-472B-B94F-E24616578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44E9-43BE-4A6E-9F48-E007EA120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8BC3-4B8A-4BA6-BC30-13B2E9696C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2AF8-767B-4C1F-81AC-2523B5AE2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4622-E2DA-4446-8F36-20CF495CE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E063-6E7B-491E-A917-9F47C94E9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6373-DA5D-4E5E-A288-D8EB820DB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D59C-FE81-40B6-B737-B873BE506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2927-A6DF-4B90-9B49-617E88894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722B-4BC1-40C9-AB9B-7BF370CCA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D709-55A2-4B70-A419-258C3ADC5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A2E213-A1E0-4BDD-8901-FCF8B8D764D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Verdana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A FOTOSÍNTESIS EN 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OS CLOROPLAST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otosíntesis en los cloroplast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7"/>
          <p:cNvSpPr/>
          <p:nvPr/>
        </p:nvSpPr>
        <p:spPr>
          <a:xfrm>
            <a:off x="971640" y="8002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efin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755640" y="1628640"/>
            <a:ext cx="720108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 proceso propio de organismos autótrof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iste en la fabricación de hidratos de carbono a partir de materia inorgá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es excluyente con la respiración. Las plantas siguen respirando durante el día a la vez que realizan la fotosínte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214800" y="2232000"/>
            <a:ext cx="3085920" cy="334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8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otosíntesis en los cloroplast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¿Cómo es el proceso de fotosíntes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971640" y="1276200"/>
            <a:ext cx="8028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oceso es el sigu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10"/>
          <p:cNvSpPr/>
          <p:nvPr/>
        </p:nvSpPr>
        <p:spPr>
          <a:xfrm rot="1140000">
            <a:off x="2787120" y="3417840"/>
            <a:ext cx="1716120" cy="380880"/>
          </a:xfrm>
          <a:prstGeom prst="rightArrow">
            <a:avLst>
              <a:gd name="adj1" fmla="val 50000"/>
              <a:gd name="adj2" fmla="val 112642"/>
            </a:avLst>
          </a:prstGeom>
          <a:solidFill>
            <a:srgbClr val="c5000b"/>
          </a:solidFill>
          <a:ln w="252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AutoShape 11"/>
          <p:cNvSpPr/>
          <p:nvPr/>
        </p:nvSpPr>
        <p:spPr>
          <a:xfrm rot="1140000">
            <a:off x="5308200" y="4137120"/>
            <a:ext cx="1716120" cy="380880"/>
          </a:xfrm>
          <a:prstGeom prst="rightArrow">
            <a:avLst>
              <a:gd name="adj1" fmla="val 50000"/>
              <a:gd name="adj2" fmla="val 112642"/>
            </a:avLst>
          </a:prstGeom>
          <a:solidFill>
            <a:srgbClr val="0084d1"/>
          </a:solidFill>
          <a:ln w="25200">
            <a:solidFill>
              <a:srgbClr val="83c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12"/>
          <p:cNvSpPr/>
          <p:nvPr/>
        </p:nvSpPr>
        <p:spPr>
          <a:xfrm rot="9360000">
            <a:off x="5196600" y="3177720"/>
            <a:ext cx="1716120" cy="381240"/>
          </a:xfrm>
          <a:prstGeom prst="rightArrow">
            <a:avLst>
              <a:gd name="adj1" fmla="val 50000"/>
              <a:gd name="adj2" fmla="val 112535"/>
            </a:avLst>
          </a:prstGeom>
          <a:solidFill>
            <a:srgbClr val="ffd320"/>
          </a:solidFill>
          <a:ln w="252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13"/>
          <p:cNvSpPr/>
          <p:nvPr/>
        </p:nvSpPr>
        <p:spPr>
          <a:xfrm rot="9360000">
            <a:off x="2857320" y="4293720"/>
            <a:ext cx="1715760" cy="381240"/>
          </a:xfrm>
          <a:prstGeom prst="rightArrow">
            <a:avLst>
              <a:gd name="adj1" fmla="val 50000"/>
              <a:gd name="adj2" fmla="val 112512"/>
            </a:avLst>
          </a:prstGeom>
          <a:solidFill>
            <a:srgbClr val="ff950e"/>
          </a:solidFill>
          <a:ln w="25200">
            <a:solidFill>
              <a:srgbClr val="ffd3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971640" y="2851200"/>
            <a:ext cx="380880" cy="380880"/>
          </a:xfrm>
          <a:prstGeom prst="roundRect">
            <a:avLst>
              <a:gd name="adj" fmla="val 417"/>
            </a:avLst>
          </a:prstGeom>
          <a:solidFill>
            <a:srgbClr val="c5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6912000" y="2454120"/>
            <a:ext cx="380880" cy="38124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381240"/>
              <a:gd name="textAreaBottom" fmla="*/ 380880 h 381240"/>
            </a:gdLst>
            <a:ahLst/>
            <a:rect l="textAreaLeft" t="textAreaTop" r="textAreaRight" b="textAreaBottom"/>
            <a:pathLst>
              <a:path w="21600" h="21620">
                <a:moveTo>
                  <a:pt x="90" y="0"/>
                </a:moveTo>
                <a:arcTo wR="90" hR="90" stAng="16200000" swAng="-5400000"/>
                <a:lnTo>
                  <a:pt x="0" y="21530"/>
                </a:lnTo>
                <a:arcTo wR="90" hR="90" stAng="10800000" swAng="-5400000"/>
                <a:lnTo>
                  <a:pt x="21510" y="21620"/>
                </a:lnTo>
                <a:arcTo wR="90" hR="90" stAng="5400000" swAng="-5400000"/>
                <a:lnTo>
                  <a:pt x="21600" y="90"/>
                </a:lnTo>
                <a:arcTo wR="90" hR="90" stAng="0" swAng="-5400000"/>
                <a:close/>
              </a:path>
            </a:pathLst>
          </a:cu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6948360" y="4068720"/>
            <a:ext cx="381240" cy="380880"/>
          </a:xfrm>
          <a:prstGeom prst="roundRect">
            <a:avLst>
              <a:gd name="adj" fmla="val 417"/>
            </a:avLst>
          </a:prstGeom>
          <a:solidFill>
            <a:srgbClr val="008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431640" y="4327560"/>
            <a:ext cx="381240" cy="380880"/>
          </a:xfrm>
          <a:prstGeom prst="roundRect">
            <a:avLst>
              <a:gd name="adj" fmla="val 0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1330200" y="2887560"/>
            <a:ext cx="2519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legan C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7272360" y="2443320"/>
            <a:ext cx="1692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apta energ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7272360" y="4068720"/>
            <a:ext cx="1800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genera 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o desech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812880" y="4327560"/>
            <a:ext cx="23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fabrican hidratos de carbo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28:38Z</dcterms:modified>
  <cp:revision>7</cp:revision>
  <dc:subject/>
  <dc:title>Presentación de PowerPoint</dc:title>
</cp:coreProperties>
</file>